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B57-3C23-4642-A1D9-8520D6D2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66D-2420-45CA-9061-E1034BE8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4A9-A10E-44A4-8D4D-96B276AF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CD6-5C83-46F0-8C08-E360A736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6F6-AA72-47E0-8F86-816BA67F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3A9-4980-42B9-A5FC-7EF389FE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361-41F3-4FD5-A7A3-F26B09A8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B64-7179-4D53-9E01-AD195F37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F8C-1734-4F02-AFBF-13DA3F06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0E7-CA99-48D7-9D0B-2D93FB1C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B37-62A3-4A72-9AC6-68225515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4E3-08AB-400B-A714-B2CE6036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74E3-F3E5-4BD5-8950-A905821BD2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66"/>
                </a:solidFill>
                <a:latin typeface="Times New Roman"/>
              </a:rPr>
              <a:t>関数型プログラミング（１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86160"/>
            <a:ext cx="64008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66"/>
                </a:solidFill>
                <a:latin typeface="Times New Roman"/>
              </a:rPr>
              <a:t>金子敬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２　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を使っ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始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Unix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における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起動には，プロンプトに対し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hugs FirstLit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と打込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起動後には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load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コマンドで読込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いずれの場合も，拡張子は省略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２　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を使っ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による式の評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urier New"/>
              </a:rPr>
              <a:t>Main&gt;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urier New"/>
              </a:rPr>
              <a:t>Main&gt;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urier New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urier New"/>
              </a:rPr>
              <a:t>Main&gt;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double 32 – square (size – double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urier New"/>
              </a:rPr>
              <a:t>-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urier New"/>
              </a:rPr>
              <a:t>Main&gt;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double 320 – square (size – double 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urier New"/>
              </a:rPr>
              <a:t>4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urier New"/>
              </a:rPr>
              <a:t>Ma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test ::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test = double 320 – square (size – double 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5408640"/>
            <a:ext cx="720072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２　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を使っ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コマン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8800" y="2457360"/>
            <a:ext cx="731520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load parrot    parrot.(l)h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ロ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reload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最後のロード命令の反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edit first.lhs first.lh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編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type exp       exp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型を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info name      name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に関する情報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find name      name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含むファイルの編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quit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システムの終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?              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命令リストの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!com         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コマンド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om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実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２　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を使っ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スクリプトの編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28800" y="2457360"/>
            <a:ext cx="731520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edit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によって起動される編集子は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set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で設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可能．省略時は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vi</a:t>
            </a: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やメモ帳な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編集子の終了時に自動的に再読み込み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編集子の起動時間を節約するために，編集子か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ファイルを書き出し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:reload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命令などで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再読み込みすることができ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２　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を使っ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初めての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による対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28800" y="2457360"/>
            <a:ext cx="731520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作業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urier New"/>
              </a:rPr>
              <a:t>13 `div`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urier New"/>
              </a:rPr>
              <a:t>13 `mod`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作業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作業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作業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46280" y="2664000"/>
            <a:ext cx="5761080" cy="1349280"/>
            <a:chOff x="1646280" y="2664000"/>
            <a:chExt cx="5761080" cy="1349280"/>
          </a:xfrm>
        </p:grpSpPr>
        <p:sp>
          <p:nvSpPr>
            <p:cNvPr id="83" name=""/>
            <p:cNvSpPr/>
            <p:nvPr/>
          </p:nvSpPr>
          <p:spPr>
            <a:xfrm>
              <a:off x="2502000" y="3338640"/>
              <a:ext cx="269640" cy="269640"/>
            </a:xfrm>
            <a:prstGeom prst="ellipse">
              <a:avLst/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2000" y="3699000"/>
              <a:ext cx="269640" cy="269640"/>
            </a:xfrm>
            <a:prstGeom prst="ellipse">
              <a:avLst/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46280" y="3743280"/>
              <a:ext cx="270000" cy="270000"/>
            </a:xfrm>
            <a:prstGeom prst="ellipse">
              <a:avLst/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46280" y="3338640"/>
              <a:ext cx="270000" cy="269640"/>
            </a:xfrm>
            <a:prstGeom prst="ellipse">
              <a:avLst/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" name=""/>
            <p:cNvCxnSpPr>
              <a:stCxn id="83" idx="6"/>
              <a:endCxn id="88" idx="1"/>
            </p:cNvCxnSpPr>
            <p:nvPr/>
          </p:nvCxnSpPr>
          <p:spPr>
            <a:xfrm flipV="1">
              <a:off x="2790720" y="2891880"/>
              <a:ext cx="2502720" cy="581400"/>
            </a:xfrm>
            <a:prstGeom prst="straightConnector1">
              <a:avLst/>
            </a:prstGeom>
            <a:ln w="38160">
              <a:solidFill>
                <a:srgbClr val="ff5050"/>
              </a:solidFill>
              <a:miter/>
            </a:ln>
          </p:spPr>
        </p:cxnSp>
        <p:sp>
          <p:nvSpPr>
            <p:cNvPr id="88" name=""/>
            <p:cNvSpPr/>
            <p:nvPr/>
          </p:nvSpPr>
          <p:spPr>
            <a:xfrm>
              <a:off x="5292720" y="2664000"/>
              <a:ext cx="211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5050"/>
                  </a:solidFill>
                  <a:latin typeface="Arial"/>
                </a:rPr>
                <a:t>バッククオー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4" idx="6"/>
              <a:endCxn id="88" idx="1"/>
            </p:cNvCxnSpPr>
            <p:nvPr/>
          </p:nvCxnSpPr>
          <p:spPr>
            <a:xfrm flipV="1">
              <a:off x="2790720" y="2892240"/>
              <a:ext cx="2502720" cy="941760"/>
            </a:xfrm>
            <a:prstGeom prst="straightConnector1">
              <a:avLst/>
            </a:prstGeom>
            <a:ln w="38160">
              <a:solidFill>
                <a:srgbClr val="ff5050"/>
              </a:solidFill>
              <a:miter/>
            </a:ln>
          </p:spPr>
        </p:cxnSp>
        <p:cxnSp>
          <p:nvCxnSpPr>
            <p:cNvPr id="90" name=""/>
            <p:cNvCxnSpPr>
              <a:stCxn id="85" idx="6"/>
              <a:endCxn id="88" idx="1"/>
            </p:cNvCxnSpPr>
            <p:nvPr/>
          </p:nvCxnSpPr>
          <p:spPr>
            <a:xfrm flipV="1">
              <a:off x="1934640" y="2892240"/>
              <a:ext cx="3358440" cy="986400"/>
            </a:xfrm>
            <a:prstGeom prst="straightConnector1">
              <a:avLst/>
            </a:prstGeom>
            <a:ln w="38160">
              <a:solidFill>
                <a:srgbClr val="ff5050"/>
              </a:solidFill>
              <a:miter/>
            </a:ln>
          </p:spPr>
        </p:cxnSp>
        <p:cxnSp>
          <p:nvCxnSpPr>
            <p:cNvPr id="91" name=""/>
            <p:cNvCxnSpPr>
              <a:stCxn id="86" idx="6"/>
              <a:endCxn id="88" idx="1"/>
            </p:cNvCxnSpPr>
            <p:nvPr/>
          </p:nvCxnSpPr>
          <p:spPr>
            <a:xfrm flipV="1">
              <a:off x="1934640" y="2891880"/>
              <a:ext cx="3358440" cy="581400"/>
            </a:xfrm>
            <a:prstGeom prst="straightConnector1">
              <a:avLst/>
            </a:prstGeom>
            <a:ln w="38160">
              <a:solidFill>
                <a:srgbClr val="ff505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6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３　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ライブラリの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relude.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8800" y="2457360"/>
            <a:ext cx="731520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Reading file:  ”C:\HUGS\lib\Prelude.h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起動時間の高速化や変数の自由化のため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多くの定義が必要に応じてインクルード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66"/>
                </a:solidFill>
                <a:latin typeface="Courier New"/>
              </a:rPr>
              <a:t>標準ライブラリ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へ移動さ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４　モジュール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ファイルとモジュー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8800" y="2457360"/>
            <a:ext cx="731520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odule Ant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odule Bee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mport 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ファイルとモジュールが１対１対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bc.lhs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または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bc.hs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)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がモジュール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Abc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を含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2000" y="2484360"/>
            <a:ext cx="3959280" cy="94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2000" y="3745080"/>
            <a:ext cx="3959280" cy="1393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3"/>
          </p:cNvCxnSpPr>
          <p:nvPr/>
        </p:nvCxnSpPr>
        <p:spPr>
          <a:xfrm>
            <a:off x="4770000" y="2957040"/>
            <a:ext cx="2520" cy="1485000"/>
          </a:xfrm>
          <a:prstGeom prst="curvedConnector5">
            <a:avLst>
              <a:gd name="adj1" fmla="val 44300000"/>
              <a:gd name="adj2" fmla="val 50000"/>
              <a:gd name="adj3" fmla="val 44300000"/>
            </a:avLst>
          </a:prstGeom>
          <a:ln w="38160">
            <a:solidFill>
              <a:srgbClr val="ff505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472000" y="2394000"/>
            <a:ext cx="13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5050"/>
                </a:solidFill>
                <a:latin typeface="Arial"/>
              </a:rPr>
              <a:t>輸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72000" y="4194000"/>
            <a:ext cx="13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5050"/>
                </a:solidFill>
                <a:latin typeface="Arial"/>
              </a:rPr>
              <a:t>輸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４　モジュール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省略時のモジュール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8800" y="2457360"/>
            <a:ext cx="731520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省略時のモジュール名は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Main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であり，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モジュール名をプロンプトに表示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module Main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ize ::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size = 12+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uble :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double n = 2*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6640" y="3789360"/>
            <a:ext cx="3960720" cy="495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905360" y="3268800"/>
            <a:ext cx="1859040" cy="5522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４　モジュール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対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14640" y="3441600"/>
            <a:ext cx="1859040" cy="5526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66"/>
                </a:solidFill>
                <a:latin typeface="Arial"/>
              </a:rPr>
              <a:t>　　　　輸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29040" y="4689360"/>
            <a:ext cx="1844640" cy="7970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040" y="4711680"/>
            <a:ext cx="1619280" cy="87804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66"/>
                </a:solidFill>
                <a:latin typeface="Arial"/>
              </a:rPr>
              <a:t>式入力と結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66"/>
                </a:solidFill>
                <a:latin typeface="Arial"/>
              </a:rPr>
              <a:t>出力の対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2600" y="3789360"/>
            <a:ext cx="1530360" cy="314280"/>
          </a:xfrm>
          <a:prstGeom prst="line">
            <a:avLst/>
          </a:prstGeom>
          <a:ln w="38160">
            <a:solidFill>
              <a:srgbClr val="ffff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2960" y="3625920"/>
            <a:ext cx="1859040" cy="5522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66"/>
                </a:solidFill>
                <a:latin typeface="Arial"/>
              </a:rPr>
              <a:t>スクリプト＋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34040" y="3699000"/>
            <a:ext cx="1859040" cy="5522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66"/>
                </a:solidFill>
                <a:latin typeface="Arial"/>
              </a:rPr>
              <a:t>標準プレリュー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247920"/>
            <a:ext cx="1859040" cy="5526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66"/>
                </a:solidFill>
                <a:latin typeface="Arial"/>
              </a:rPr>
              <a:t>標準ライブラ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73680" y="4194000"/>
            <a:ext cx="0" cy="495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513320" y="4148280"/>
            <a:ext cx="2520720" cy="5410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828680" y="3968640"/>
            <a:ext cx="2205000" cy="135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73320" y="5138640"/>
            <a:ext cx="85572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５　第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の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Pictur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icture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スクリプ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module Pictures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type Picture =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The horse example used in Craft2e, and a comple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white pi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horse, white ::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horse =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white =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２　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と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ではじめよ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２．１　初めての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プログラ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２．２　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を使っ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２．３　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ライブラリの標準プレリュー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２．４　モジュー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２．５　第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の例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ff66"/>
                </a:solidFill>
                <a:latin typeface="Courier New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２．６　誤りと誤りメッセ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５　第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の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Pictur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icture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スクリプ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Getting a picture onto the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printPicture :: Picture -&gt; IO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printPicture =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Reflection in vertical and horizontal mirr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flipV, flipH :: Picture -&gt;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flipV = map re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flipH = re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５　第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の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Pictur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icture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スクリプ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One picture above another. To mainta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rectangular property, the pictures need to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the same wid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above :: Picture -&gt; Picture -&gt;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above = (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One picture next to another. To mainta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rectangular property, the pictures need to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the same he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sideBySide :: Picture -&gt; Picture -&gt;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sideBySide =zipWith (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５　第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の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Pictur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icture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スクリプ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Superimpose two pictures (assumed to be same siz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superimpose :: Picture -&gt; Picture -&gt;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superimpose =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Invert the black and white in the pi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invertColour :: Picture -&gt;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invertColour =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５　第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の例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en-US" sz="4700" spc="-1" strike="noStrike">
                <a:solidFill>
                  <a:srgbClr val="ffff66"/>
                </a:solidFill>
                <a:latin typeface="Courier New"/>
              </a:rPr>
              <a:t>Pictur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icture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スクリプ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import Picture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により輸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rintPicture :: Picture -&gt; IO 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は出力用関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rintPicture horse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のように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2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module UsePicture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import Pi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blackHorse ::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blackHorse = invertColour h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rotate :: Picture -&gt;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rotate = flipH . fli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rotateHorse ::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rotateHorse = rotate h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black ::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black = superimpose h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(invertColour hor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2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above (sideBySide white bl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(sideBySide black wh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sideBySide (above white bl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(above black wh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練習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above (sideBySide horse blackHor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(invert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(flipH (sideBySide h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                         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blackHorse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572000" y="4149720"/>
            <a:ext cx="741240" cy="736560"/>
            <a:chOff x="4572000" y="4149720"/>
            <a:chExt cx="741240" cy="736560"/>
          </a:xfrm>
        </p:grpSpPr>
        <p:sp>
          <p:nvSpPr>
            <p:cNvPr id="149" name=""/>
            <p:cNvSpPr/>
            <p:nvPr/>
          </p:nvSpPr>
          <p:spPr>
            <a:xfrm>
              <a:off x="4572000" y="4149720"/>
              <a:ext cx="741240" cy="73656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647600" y="4194000"/>
              <a:ext cx="586800" cy="637920"/>
              <a:chOff x="4647600" y="4194000"/>
              <a:chExt cx="586800" cy="637920"/>
            </a:xfrm>
          </p:grpSpPr>
          <p:sp>
            <p:nvSpPr>
              <p:cNvPr id="151" name=""/>
              <p:cNvSpPr/>
              <p:nvPr/>
            </p:nvSpPr>
            <p:spPr>
              <a:xfrm>
                <a:off x="5113440" y="4194000"/>
                <a:ext cx="119880" cy="338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5006520" y="4422240"/>
                <a:ext cx="227880" cy="111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06880" y="4424400"/>
                <a:ext cx="113400" cy="407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4800960" y="4194720"/>
                <a:ext cx="308880" cy="1321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4647600" y="4326840"/>
                <a:ext cx="151920" cy="2721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47600" y="4602240"/>
                <a:ext cx="475560" cy="2296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807000" y="4149720"/>
            <a:ext cx="741240" cy="736560"/>
            <a:chOff x="3807000" y="4149720"/>
            <a:chExt cx="741240" cy="736560"/>
          </a:xfrm>
        </p:grpSpPr>
        <p:sp>
          <p:nvSpPr>
            <p:cNvPr id="158" name=""/>
            <p:cNvSpPr/>
            <p:nvPr/>
          </p:nvSpPr>
          <p:spPr>
            <a:xfrm>
              <a:off x="3807000" y="4149720"/>
              <a:ext cx="741240" cy="736560"/>
            </a:xfrm>
            <a:prstGeom prst="rect">
              <a:avLst/>
            </a:prstGeom>
            <a:noFill/>
            <a:ln w="381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883320" y="4193640"/>
              <a:ext cx="586440" cy="638640"/>
              <a:chOff x="3883320" y="4193640"/>
              <a:chExt cx="586440" cy="638640"/>
            </a:xfrm>
          </p:grpSpPr>
          <p:sp>
            <p:nvSpPr>
              <p:cNvPr id="160" name=""/>
              <p:cNvSpPr/>
              <p:nvPr/>
            </p:nvSpPr>
            <p:spPr>
              <a:xfrm>
                <a:off x="4348440" y="4193640"/>
                <a:ext cx="119520" cy="33840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242240" y="4421880"/>
                <a:ext cx="227520" cy="11160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42240" y="4424400"/>
                <a:ext cx="113040" cy="40788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4036680" y="4194360"/>
                <a:ext cx="308160" cy="13212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883320" y="4326480"/>
                <a:ext cx="151560" cy="27216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83680" y="4602240"/>
                <a:ext cx="474480" cy="23004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807000" y="4915080"/>
            <a:ext cx="741240" cy="736560"/>
            <a:chOff x="3807000" y="4915080"/>
            <a:chExt cx="741240" cy="736560"/>
          </a:xfrm>
        </p:grpSpPr>
        <p:sp>
          <p:nvSpPr>
            <p:cNvPr id="167" name=""/>
            <p:cNvSpPr/>
            <p:nvPr/>
          </p:nvSpPr>
          <p:spPr>
            <a:xfrm flipV="1">
              <a:off x="3807000" y="4915080"/>
              <a:ext cx="741240" cy="73656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882600" y="4969440"/>
              <a:ext cx="586800" cy="637920"/>
              <a:chOff x="3882600" y="4969440"/>
              <a:chExt cx="586800" cy="63792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4348440" y="5269320"/>
                <a:ext cx="119880" cy="338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241520" y="5267520"/>
                <a:ext cx="227880" cy="111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241880" y="4969440"/>
                <a:ext cx="113400" cy="407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035960" y="5474520"/>
                <a:ext cx="308880" cy="1321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3882600" y="5202360"/>
                <a:ext cx="151920" cy="2721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3882600" y="4969440"/>
                <a:ext cx="475560" cy="2296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4572000" y="4915080"/>
            <a:ext cx="741240" cy="736560"/>
            <a:chOff x="4572000" y="4915080"/>
            <a:chExt cx="741240" cy="736560"/>
          </a:xfrm>
        </p:grpSpPr>
        <p:sp>
          <p:nvSpPr>
            <p:cNvPr id="176" name=""/>
            <p:cNvSpPr/>
            <p:nvPr/>
          </p:nvSpPr>
          <p:spPr>
            <a:xfrm flipV="1">
              <a:off x="4572000" y="4915080"/>
              <a:ext cx="741240" cy="736560"/>
            </a:xfrm>
            <a:prstGeom prst="rect">
              <a:avLst/>
            </a:prstGeom>
            <a:noFill/>
            <a:ln w="381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648320" y="4969080"/>
              <a:ext cx="586440" cy="638640"/>
              <a:chOff x="4648320" y="4969080"/>
              <a:chExt cx="586440" cy="63864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5113440" y="5269320"/>
                <a:ext cx="119520" cy="33840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5007240" y="5267880"/>
                <a:ext cx="227520" cy="11160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5007240" y="4969080"/>
                <a:ext cx="113040" cy="40788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4801680" y="5474880"/>
                <a:ext cx="308160" cy="13212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4648320" y="5202720"/>
                <a:ext cx="151560" cy="27216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648680" y="4969080"/>
                <a:ext cx="474480" cy="23004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６　誤りと誤りメッセージ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文法誤り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syntax err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Courier New"/>
              </a:rPr>
              <a:t>Main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2+(3+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RROR: Syntax error in in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unexpected `)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６　誤りと誤りメッセージ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型誤り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type err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Courier New"/>
              </a:rPr>
              <a:t>Main&gt;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double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RROR: Type error in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** expression     : double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** term           :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** type           : Int -&gt;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*** does not match :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7000" y="4554360"/>
            <a:ext cx="2384640" cy="5860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5049720"/>
            <a:ext cx="1035000" cy="4492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56280" y="5049720"/>
            <a:ext cx="22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square</a:t>
            </a:r>
            <a:r>
              <a:rPr b="1" lang="ja-JP" sz="2800" spc="-1" strike="noStrike">
                <a:solidFill>
                  <a:srgbClr val="ff3399"/>
                </a:solidFill>
                <a:latin typeface="Courier New"/>
              </a:rPr>
              <a:t>の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77000" y="4915080"/>
            <a:ext cx="225720" cy="2696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86280" y="5499000"/>
            <a:ext cx="225720" cy="270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42000" y="5678640"/>
            <a:ext cx="256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urier New"/>
              </a:rPr>
              <a:t>double</a:t>
            </a:r>
            <a:r>
              <a:rPr b="1" lang="ja-JP" sz="2800" spc="-1" strike="noStrike">
                <a:solidFill>
                  <a:srgbClr val="ff3399"/>
                </a:solidFill>
                <a:latin typeface="Courier New"/>
              </a:rPr>
              <a:t>が要求している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２．１　初めての</a:t>
            </a:r>
            <a:r>
              <a:rPr b="0" lang="en-US" sz="43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プログラ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スクリプト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scri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伝統的スクリプト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--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」や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{-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」と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-}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」でコメン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入れ子になっても良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拡張子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hs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文芸的スクリプト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&gt;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」でプログラ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拡張子「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.lhs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６　誤りと誤りメッセージ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型誤り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type err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Courier New"/>
              </a:rPr>
              <a:t>Main&gt;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4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ERROR: ... is not an instanc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clas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６　誤りと誤りメッセージ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6360" y="1982880"/>
            <a:ext cx="7634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プログラム誤り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program err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Courier New"/>
              </a:rPr>
              <a:t>Main&gt;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4 `div` (3*2-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Program error: {primDivInt 4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66"/>
                </a:solidFill>
                <a:latin typeface="Times New Roman"/>
              </a:rPr>
              <a:t>要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1960" y="1982880"/>
            <a:ext cx="8555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単純な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プログラムの書き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へのロードの仕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モジュールの機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urier New"/>
              </a:rPr>
              <a:t>Pictures</a:t>
            </a: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による事例研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12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文法誤り，型誤り，プログラム誤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２．１　初めての</a:t>
            </a:r>
            <a:r>
              <a:rPr b="0" lang="en-US" sz="43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プログラ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伝統的スクリプト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rstLiterate.hs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{-################################################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FirstLiterate.l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Simon Thompson, June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The purpose of this scrip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- to illustrate some simple defin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over integers (I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- to give a first exmaple of a scri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#################################################-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２．１　初めての</a:t>
            </a:r>
            <a:r>
              <a:rPr b="0" lang="en-US" sz="43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プログラ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伝統的スクリプト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rstLiterate.hs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-- The value size is an integer (Int), defined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-- the sum of twelve and thirt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size ::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size = 12+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-- The function to double an int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double :: Int -&gt;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double n = 2*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-- An example using double, square and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２．１　初めての</a:t>
            </a:r>
            <a:r>
              <a:rPr b="0" lang="en-US" sz="43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プログラ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文芸的スクリプト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rstLiterate.lhs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################################################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FirstLiterate.l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Simon Thompson, June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The purpose of this scrip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- to illustrate some simple defin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over integers (I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- to give a first exmaple of a scri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################################################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２．１　初めての</a:t>
            </a:r>
            <a:r>
              <a:rPr b="0" lang="en-US" sz="43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プログラ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文芸的スクリプト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FirstLiterate.lhs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The value size is an integer (Int), defined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the sum of twelve and thirt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size ::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size = 12+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The function to double an int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double :: Int -&gt;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&gt; double n = 2*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An example using double, square and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２．１　初めての</a:t>
            </a:r>
            <a:r>
              <a:rPr b="0" lang="en-US" sz="4300" spc="-1" strike="noStrike">
                <a:solidFill>
                  <a:srgbClr val="ffff66"/>
                </a:solidFill>
                <a:latin typeface="Times New Roman"/>
              </a:rPr>
              <a:t>Haskell</a:t>
            </a:r>
            <a:r>
              <a:rPr b="0" lang="ja-JP" sz="4300" spc="-1" strike="noStrike">
                <a:solidFill>
                  <a:srgbClr val="ffff66"/>
                </a:solidFill>
                <a:latin typeface="Times New Roman"/>
              </a:rPr>
              <a:t>プログラ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プログラムのダウンロ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ＭＳ Ｐゴシック"/>
              </a:rPr>
              <a:t>テキスト中のプログラムは，以下の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URL</a:t>
            </a:r>
            <a:r>
              <a:rPr b="0" lang="ja-JP" sz="2800" spc="-1" strike="noStrike">
                <a:solidFill>
                  <a:srgbClr val="ffff66"/>
                </a:solidFill>
                <a:latin typeface="ＭＳ Ｐゴシック"/>
              </a:rPr>
              <a:t>で取得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http://www.cs.ukc.ac.uk/people/staff/sjt/craft2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２．２　</a:t>
            </a:r>
            <a:r>
              <a:rPr b="0" lang="en-US" sz="47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4700" spc="-1" strike="noStrike">
                <a:solidFill>
                  <a:srgbClr val="ffff66"/>
                </a:solidFill>
                <a:latin typeface="Times New Roman"/>
              </a:rPr>
              <a:t>を使っ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1960" y="1982880"/>
            <a:ext cx="7634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ugs</a:t>
            </a:r>
            <a:r>
              <a:rPr b="0" lang="ja-JP" sz="2800" spc="-1" strike="noStrike">
                <a:solidFill>
                  <a:srgbClr val="ffff66"/>
                </a:solidFill>
                <a:latin typeface="Times New Roman"/>
              </a:rPr>
              <a:t>のダウンロ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8800" y="245736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ＭＳ Ｐゴシック"/>
              </a:rPr>
              <a:t>処理系は以下の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URL</a:t>
            </a:r>
            <a:r>
              <a:rPr b="0" lang="ja-JP" sz="2800" spc="-1" strike="noStrike">
                <a:solidFill>
                  <a:srgbClr val="ffff66"/>
                </a:solidFill>
                <a:latin typeface="ＭＳ Ｐゴシック"/>
              </a:rPr>
              <a:t>で取得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http://www.haskell.org/hug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いくつかの処理系が存在する．学科の計算機室で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winhugs</a:t>
            </a:r>
            <a:r>
              <a:rPr b="0" lang="ja-JP" sz="2800" spc="-1" strike="noStrike">
                <a:solidFill>
                  <a:srgbClr val="ffff66"/>
                </a:solidFill>
                <a:latin typeface="Courier New"/>
              </a:rPr>
              <a:t>が利用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金子敬一</cp:lastModifiedBy>
  <dcterms:modified xsi:type="dcterms:W3CDTF">2009-05-11T11:39:01Z</dcterms:modified>
  <cp:revision>125</cp:revision>
  <dc:subject/>
  <dc:title>PowerPoint Presentation</dc:title>
</cp:coreProperties>
</file>